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D19-5B5E-42DF-B502-42196545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FA3-C6E2-4C44-8D48-91A6D40C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45AB2-BFE0-4426-9EFF-5D235F5F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223DE-F4A1-4125-BF07-8385178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E9C4C-FA86-458E-8033-8767E135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71AF0-83D7-4FF6-A520-8075ECB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C1EC9-5F42-4F21-BD8C-0A5A8E2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6011F-B3DB-4FCF-96FD-1E87D9C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B8D92-2497-4505-8F04-1EB86FB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8849C-0971-4AE6-8B72-C26BB63A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FA8AD-A34F-400B-9D52-3F32D86E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FB8EF-F9C6-440B-915B-96066F11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770-F2FB-4E62-93E3-0F9F7CC5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25AF0-73DD-473F-A17D-045F03C4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D5D9D-336B-4286-8C7C-4B7548F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9FDD3-FF20-4911-9987-280C86B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62125-9E2B-4119-948C-60B58CA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A2322-B921-4C0D-AF3B-4845A6D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281D4-1A17-4883-8153-B5C795F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24E6E-FE34-4AA2-AEA4-9F64F2B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0A5E-8B12-49ED-8830-C20CC98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67D4B-DDAB-4605-8967-DB9DBB28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8F33F-A6D2-4AE0-97D3-E7DC6631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AF8-9ECE-4296-9842-2609CC9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518AD-C2E5-4E9E-8B66-18B638A8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ACDDC-3968-4661-9261-17BAB7B7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8790C-C4D4-45B5-B7AC-9A4E0CAB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27002-4672-4A10-98B0-A76EC293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DC578-A8A8-4F18-AF4D-AE4A9F16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ADD42-E7C3-4405-9569-38A5BA30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4DDCF-7473-4751-9716-6233331E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01F67-DB66-4A13-88CA-260B1D9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6E168-4EA9-4D7E-88D2-2724D18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2C39E-AF31-417B-892B-B412032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6D7E-1D30-4037-AEAA-1F5CD2BC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8E80D-794E-4C07-8DD5-300C2D85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E1A9C-CA34-4852-8B3B-44114F9E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6C5F1-8F1A-4E6B-8429-8879D6D8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77A52-7639-4A03-ACF4-40E963B6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5675B-82D3-4123-A9C3-C0591148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3E743-4E20-4EDF-B659-F2FF7E72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89091-EBB7-4866-AFBC-0A076AB8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2652F-20E4-425F-84A2-62A4F2EE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95163-4B40-425F-9DBF-9B837411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E2670-46F2-4F80-8BBE-06DB6DD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902E-6E28-4C63-B47A-9F51C505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FDE76-A220-4035-A8A3-5EEAB430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2861A-55EE-4E8A-9A76-AB0CE7B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68DA3-8724-4EF3-AAF3-97D4E660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5B4FC-E0D6-4798-BF85-55995A37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82FA4-C64E-4E23-81FF-D9406ED5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79C7C-568F-4A98-912A-AD4836FD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D2EF1-7594-4CBE-8DA3-DF17CA2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E22B6-655A-48F4-9374-A78D5A49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B2174-0E92-458D-980B-58654142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866F6-519E-40A3-AA3B-29864C82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5D24-D276-4EEA-BF04-7C27EC2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C714F-5129-4E7B-80B6-E2537F83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05A80-049A-4586-A8C7-AC0CA88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33A3F-991C-4E3F-9FD4-CC12A98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128DF-19C2-4B34-B1A2-43BB67C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69FBF-9C29-4812-B460-A5C00BF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4D30E-2AA1-40CC-9684-A6B2F439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1A112-AE8F-4CBF-8A35-87D7DFCC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0725C-D10D-40B0-BBEF-037ED1D9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92138-4C4C-43E7-847C-EED4453B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1937C-018E-464B-A4B1-11E43AB2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698D-50FD-4845-91F4-17508F3D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6AB98-9483-4F99-AC54-F73E19EA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6A3A7-C764-4453-8194-ECB4668E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272D8-AF60-4892-AA47-F0CA8D5E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52801-4E69-4229-B575-F3D0D0C1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029C0-9F24-4F50-A159-B9922786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ADBB2-85DF-4743-A498-72D71D9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0B9C9-02FF-47D9-BF7C-FB0E2523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0807B-0C32-4F76-B658-767F12ED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93D18-243F-4A76-AE1C-68744CDB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72F2A-207B-4EF8-98B3-F888AE61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38B1-C2F8-4BAE-9DD8-F30FE80D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3F645-7EDE-4841-90DD-33BEF4B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D08C0-A8D8-49EE-8419-668A49B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624EE-CF77-4E2F-AA45-71262E16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5B81F-821B-4017-A598-D36BE215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340FA-0464-4EC9-AEE6-987E462E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3406C-C0E8-44C6-835C-1D0E4437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FA309-476A-4665-A8EF-3B3757A1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20FA0-34FD-4D8C-A84B-97AD8F8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9688D-E1DF-4503-A62A-9D5CC8A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EA182-0410-4DB1-8518-B40DA9C2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635E-2400-4B28-968F-8319DB8E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1CB01-86EC-4028-BDEC-168AEC2F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39119-6DDD-4667-B4FA-4389161F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89235-9792-42F9-AD6A-FBF6BAE0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1A214-B920-4EE7-A71B-10CF200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8CBF1-DBF7-4938-99C6-8FC3E28F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43090-0C88-47E6-87C7-EE683C3A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A14BF-6C77-4C60-9C3C-DDC7463A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538F8-1FD1-4E2E-8FC4-17F9BAD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6344E-F1D6-43B3-A014-F8C6C29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78364-ACDC-4D6E-9FF8-5D7AF9B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8613-D41B-42FA-B5B6-CC5012F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522B1-AB6C-47D4-8AB9-FD5D2D3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279A3-7C34-48C7-9819-39D63AD3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48868-361C-48AC-B44E-198C8C26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B2352-2B35-4EC2-AAB2-595105CD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57FC8-95CA-4157-9BC9-36CCE4FC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DDAD5-C1F3-4DDF-950A-DC897792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1D084-E113-4667-BCA1-600B55B4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96A5A-F0F4-4974-A456-4B8AAC70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91580-6DE5-489A-A347-D90E80C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240E3-0731-4F51-819B-604380C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BDE-EB78-4A6D-8761-32A908F1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AC81-98E6-4202-975F-B71C968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0CBC5-BAF5-408A-BC83-C1B190E6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17384-8FDD-4C90-8E3E-75513A77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8621D-5CAA-4212-9F66-4878E991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B45FE-8DCA-4DB2-B356-51DDF0D2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87C78-0F6D-49BD-8125-7F3269DE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76479-2E7F-47DF-AC50-78ECC05D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FE7AC-52CF-4F8A-9572-B2257083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841C8-7A1C-4B63-ADAD-6AEBCB1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F90A7-83FC-4FC7-B429-06EA3BFB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D2379-865E-4BE9-B75B-56837C40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7CD-4981-4E0D-A62F-18B9DFE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E1501-D82E-426A-A352-5ED249B1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25813-498A-41A1-874A-AD8CD14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4F0D7-5EFB-410F-A8B9-67E7C36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27D45-C92D-4E9A-A3DE-0BF1A96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BDDDA-23BA-4F01-AA7A-D66CDA91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AA7C7-E254-48F0-BA04-2B2FC0BE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06F53-9724-4A42-8C91-A5CFE654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ACEC4-145C-4B14-A7A0-5A172B16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38014-2F95-41DC-A651-B266F476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AC16A-3260-4D48-B66E-64DD8FE1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7ECF-B674-45CD-A18B-D56468A4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B4AD5-D46C-4D10-AB03-A587FF0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5623B-2F27-4FEB-87B1-3B7EDA5C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9B016-9C1C-4AC2-A527-1D164234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13153-E733-40CC-B5CB-29C48A69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70C41-BFA1-4FED-9D2B-870005A4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1762B-CA27-4F39-9453-2C4FDE9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4D622-A8E0-45B6-A88B-B276512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51C8A2-26B5-42F6-B812-D09450C5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F554B-D736-4595-9AD3-A230E6B4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480A2-B53E-40D0-9315-41737904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C52-CD1D-43F4-B0BE-86CC091F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0B559-786F-46C7-8E46-9EDC365E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F12D8-AE5E-47A1-8DE2-BDD8671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6ECE6-8A39-40E2-94DC-FA50536B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7C04E-D319-46B9-A77F-F41840C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BC5C8-D15F-4886-A695-BCBC77F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80937-3CD3-4B64-BC5C-5C57A6F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5C6A1-D5F6-46B5-A2CF-4D8EDEA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571D2-FAFB-4B6B-844C-E17F6EC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0E7B4-6792-4AA9-8EAD-3B242C9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DB731-3615-41DD-B7D5-66ACF449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FD7C-CFBF-416A-A2E1-7FEE0C81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C7B7E4-A176-495D-A8BD-3A24906E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E222F-12FE-449F-8EE1-F1ECE0F2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DC878-DF70-4D0D-903A-C3A35DD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45DB64-4182-4F26-BDAA-C426B02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BA3E0-6A2D-46A9-8A26-1A8BDB48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8A4BB2-742F-4B1F-933B-0F92F4B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ABB1F-245E-47CF-B0CB-4F9957B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CD4ED5-86B9-4200-8DA1-44C5A38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C27A4-8AC2-43F3-9DFF-6AD978F4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22505-26D9-45DE-A967-64B416B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9566-F807-4C27-9228-97674727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5B6EBA-DCB4-4FF0-B9C8-46CC2BCC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3DB0C-429A-46BA-B98A-ACA51489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6509D-3F2C-430E-884C-CAF640CF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252C2A-6877-4238-90AE-CE914BE9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81A8D0-751E-423B-95D8-BAAF490E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207B45-18D9-4777-BA0C-F9CABE51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75844A-7A40-48B2-BDBF-7BEA3A9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A6F16E-12DD-4E3E-A661-279DEF5D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402F47-7E72-43E6-A1DB-D0D90B46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C2662B-2B94-4412-912C-DC040B6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058F-B79F-43F1-B08C-E1593AFC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B646AC-DDD4-48D4-8798-838AD6F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2C5D48-085D-4A01-BD12-EE5D178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2A7ECB-6CC4-476E-A4F8-0E4F5DFB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8F3871-D105-40FB-95FC-A92746EB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49ED1-0D96-4558-BAB9-B91CF76A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998089-6091-48E2-B099-495DAAC9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1C77DD-B83C-4D14-BFD3-BF2BFB3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885A34-5014-49AF-9330-6A67120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77FF03-D0ED-466F-B288-85CAB10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4ECB09-3D53-4FEF-BF83-2607138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20A8-66BA-44AA-AA12-5184CF6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B96F60-9D36-4511-AD1D-6A05DCAF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1A0902-3D37-4CA1-B198-8E05C15D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E4D8E-A36F-4FF8-A1A0-8E4A81E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42CBF7-B7B4-4458-BDA2-84D8208F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D066C-C406-494D-A218-C197E84A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8B4CC-355E-48F1-9757-95DE7CAD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75D79-55FF-4B0F-8201-C6A41778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FC3B71-F075-4143-AB3A-EC54598F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D850F4-77EB-4059-B927-CD9931B7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DA69A9-8996-4191-A8C0-EF4CE7CD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D302-A3A2-40EF-8D6A-FC358F6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9CCF19-D901-4051-A85E-1F383816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1663B-7A81-4384-ACCE-00E0A138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E1DC10-A629-49D1-9144-19F8178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42FE6-ECFF-49ED-89FB-EB2476B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95901-D6CB-4EA3-8DCE-55772A9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C2DFA2-ED25-4136-8E97-7975DE7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FB8CF9-7EFC-450A-8FC0-FBED857A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C6407F-B8D3-4219-8163-7E6CD4E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BF9981-38EC-450E-899D-462EC725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10A3E6-21D4-4B26-9BEF-EDACF35F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776C-110F-4C43-8F7C-F822C8D5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65E36A-69E6-4C6D-9472-B22106B7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8197CC-B17D-46E8-8A79-F542DFBE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A2D4CD-9B31-48A8-AE89-F48E5688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A7EF5F-3A25-40EE-982A-6912F51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B27D44-0DE4-45E8-8E3C-18E0E03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E35D5E-827A-47F9-9BE4-D65B1A63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956894-D2EA-415E-A369-6317B23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B23426-7E6A-44CB-A796-8E02A9D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687DE1-DAE1-40BA-A419-7B2A77E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E51685-F2F0-40E5-B6E9-DFC4ED6A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2CE-BE3B-4333-B193-74581FD5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0F2F-6F5A-470C-AF7B-AAA2D997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5228F0-60F1-4B39-A916-5929446D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74DA12-0909-4AC2-94DC-B9835DBE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64049B-6D17-4EEE-B9F7-B0C76ACB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990200-91B0-4014-B109-1EC487F3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4829EC-5D8E-4814-A4E6-121B4524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C048D7-B797-4605-A462-CA831C2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89291F-1A7F-4E36-A1AB-B38112D4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897557-1631-451C-BDC0-9DEEF8D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7F8817-3800-4BC4-A089-C28A819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2F9169-3BAD-4A19-B449-CF85BDD4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5FDC-11A2-4F56-A811-89BEBA0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0BEB77-36BC-46BF-8332-D345495A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60C451-9CC5-430D-B0C0-8F1CE3D8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E7E0B1-6DE2-4E14-A08F-5554707F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4D3460-E3FC-4E31-9325-8C831837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3B21F1-5949-41BC-9229-F3CB6FBE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3E030C-DF52-48DA-9903-C2D77BA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11C793-3514-4F22-BDD7-B418ECCD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1023DD-2326-4FC6-B99C-EFA5BCA8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862ECD-C13F-4994-99B1-EB3FA493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83E2C2-EFD9-40C6-829E-983FC72F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F9E1-90E5-4203-A8A9-5DC6B89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65C81B-C7E2-43C0-AA04-A3942CC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078298-F778-4AD0-AC30-36E4F86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D78E88-CAC8-4955-B454-94996241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4DCCE3-8BF9-43A0-927E-97B73E62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6481BC-0511-4260-BB5D-16F40F08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7A1171-156A-4F00-A9A5-FF28DFD1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692A19-44CC-49D9-AC3B-EC6EC69D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3A3227-EBB8-4FBA-9ADD-F7EDF686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7D0BFD-7272-4800-A6B0-8FB6626E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53DA5D-56E8-438D-8B8F-263FA2D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5B37-FD84-42DB-A1DA-EEA7A2A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EA71B9-A1CB-4329-8C6B-1108E6F3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C3FC05-B3AD-4E1A-B83A-C76FE0D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7BB5C7-392D-46CE-B2CA-819068A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6B4DD6-F9BB-4EAF-AA1A-655D908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02BD3C-941B-4168-930E-D136A4F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2DABDA-2084-4F7C-95C3-BCAAD5DC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6067AC-CA5F-47BB-BC93-10F9CB83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FB952C-70CA-46C8-A5FA-A0EDA5D1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B538DA-8EDB-43A5-80EC-A8637477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D39BF6-F5FD-4640-9AAB-E0FAC56F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8BC9-BD8C-450B-9973-6B4270BB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35A8AA-D8E8-4B23-948A-925965E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314C8D-B539-43B2-80C9-3C231CF8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D7F848-C13B-44AF-95E9-8029BBC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26A5D9-0235-4650-A4D8-82235AE6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85DFE0-1821-4570-A67A-76A41ED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8FEB69-5D98-4A81-9C6D-C0C41FC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62CC31-BA74-4675-BF85-02D8CE56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E08BE8-4F5E-456F-8AA6-20866072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307326-1E51-47B9-AB8A-E482BA89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49D743-A86B-4FA5-B293-62B2BABF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DB7E-4A04-4A7D-9E7D-8BFE8317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817A6F-6A02-4A1A-9B6F-790DAE1F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0CF69D-D53E-4E19-87EF-C573A1F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8316EC-A965-41CD-94B5-56425522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611028-0FCF-47AF-8AA2-3D2E716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439E9A-395C-4792-84AD-9C12989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EAA613-535C-44EB-8854-AF9A245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1D9A31-46B9-4001-9EE0-CA02935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B0CF80-47DF-4BB6-9757-AE8C2D2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5BFBE8-849D-4DD9-9DA5-BBDC9EFB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4C7340-9B69-474A-8A20-A7667097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E7A3-306C-481E-B1DF-187B1EA2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A23734-18A5-467A-AF5F-83298AE6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1EC270-3139-4358-B8A3-0ADF0AE1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1AABA4-4D18-4C1E-81F8-D4BA9F4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1AC58F-5102-4701-8915-59DC0534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D84269-A49F-484A-B9B9-AF666AAC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986393-F234-4111-84A5-9B5A2A4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D949B5-9FF3-4FCC-A2D5-866C447D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47B151-AE17-44FF-991D-7D93F2C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D3B22E-52ED-4559-B578-CC8562D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4BB26D-85F1-4D4D-8A2D-2CBF34C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8BE9-8BF1-4124-9E61-7A0B0B8D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AE9139-E555-444B-815B-53C5402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67B962-AF55-4A88-B886-48F84C57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34155A-DC78-4DBE-A182-661AD71C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143C-464F-4B67-BB71-A580D57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9414-37DC-4320-87DD-C290B36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691-7705-49A5-A7EC-5E79BA01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8DAC-B212-4E7D-80C7-D5BBD4D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843D-1D37-484A-BED0-D0106F1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C206-A8B2-45D5-A25D-6938BCE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D966-7B46-4D36-8DA1-BCEDF30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720C-0C65-43B6-B66A-E44AD335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7C0B-C320-455D-89D3-033F22F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7A5F-C2FF-42B0-9EC4-F62639CA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0E42-2683-4B69-B98B-9E09085A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D97A-AF73-4463-AD48-54AE1AA6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7764-9FC4-4ED7-BFA5-16A1AD2C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8E6-EE34-4C90-AFCB-77C6A20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C4D62-5355-4BD0-B54E-CFC4960B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C2F9E-CF72-481E-915D-61F12E27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D4192-E48E-488A-B2EC-433C59D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97DB-ECA4-4416-BA3E-0797125B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5E33-85A2-41DA-A72F-843F56E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B5EE-79AA-4AEB-9F6B-9C2953FE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811D-1E3A-4351-A3AC-9F520E6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B616-B1F0-4BDB-8378-6639B07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F50E7-AF8D-4492-BD0D-66F32591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6EE7-C2D1-4859-A739-DCBDCFF7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6FA-659F-42FC-9CB7-F4C48660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96DB-47C1-44A6-9EAE-E5E53BC4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ADA08-8CD3-431E-97F5-51D43D15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4005-6084-4B21-A1B7-6BAE360B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E7402-723D-45C2-911A-1373F551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16513-16D5-419C-887B-9EA280F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8C88A-68AC-4F95-A4EE-73DE637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04FA-D51D-4663-99E6-592402DA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1DF9-B287-420A-BD12-838845D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8BA7-6621-4855-9913-1AA6D100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E7793-9097-47F3-B168-7E26EB2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1C8-543E-46F8-BF82-52DEE8C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9040-FB9B-41E9-87DA-52A19D5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A02EA-2FDE-46EE-A5FE-0CBDCCA5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9592C-A717-4B70-9518-22A5F599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062B7-12A3-4D66-9D3E-F3AE8044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F8997-7F1E-4444-8B17-829D5DF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CE889-F5CB-4571-8C69-E8AA159D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7C247-2B67-4962-A536-9C1B067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95DB5-D4EC-4ABC-8389-B6142E3F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B4D8B-E5BA-4EFA-AC19-A4B14F8F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61F49-2144-4787-A2E6-6E59A06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B38-3AB4-4F40-9614-9ECE042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ED027-D480-44D0-A8C9-44F548DB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9A08-81AF-4E36-AC3F-97B5643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79568-75A2-41D4-8148-5DAF9864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B8DBF-E141-4837-9167-9E142080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3D3B-8057-47B5-8F6E-88159E48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7AA6-DB9F-481B-B615-ECD24F32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13809-90D9-4278-BA2B-76F44261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9785-A737-47FD-BC23-3584F6E9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BD831-BB91-47F3-A40B-38DE4659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B4D14-B298-4BAA-8E01-A49FB6DB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4B3-4DAB-4C7D-BF1A-DFB6F5A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0E91E-6B97-4089-8CE8-4C407F03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BF4D0-4740-4A0F-8E05-6888987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74FE5-69BF-4681-A377-AC8B50E3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58A2-0D10-428C-9868-E604A45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17448-70E4-495D-84F0-207C512D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FDA5-4D74-4374-8C47-19D79223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EDD5-0006-4551-9A1D-21B15A8A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1C23B-6FDE-4F0A-B6FD-C2351B3B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FE3B7-6FFB-4D33-A315-D9F6AB33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7928A-C9C0-468E-9A5D-25693A79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0B45-FB71-4FE7-8701-40EB2CBEAE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AA4-5C2E-4931-87D5-3C31BFFDF4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0D9F-21F7-49BC-8CC1-814007737A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A4A4-C01A-4FDE-88D5-03A43F7593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50DB-865F-4BD2-A3AC-4685B8D53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7FA-24EE-4BC7-A000-D95CA9F34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2FDB-A44A-492E-8C47-891B2EB6D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E21-F935-4D9B-8B47-E9F603E077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F78A-3340-47E9-94F7-2DF6B9F9A2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2EE4-9DD6-49E9-B500-E5E1BE159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909-A137-4BF8-A322-E10448BAA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DB2-37BA-408C-AA18-02662426B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970B-301F-4398-B884-27AB1E0F20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390D-96C6-43D6-98FB-38F361652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D8AD-D9EE-4890-9C4E-027A356F50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B1E-768F-48D9-93CA-9A88D0642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E5D-D6B7-454F-AAD4-A447D4173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8A71-2478-44C6-A374-241D3EB90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B63-F0A1-46E8-98A5-60F1C5FE95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3B8-9B49-4219-AF0A-F235414C48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4F1E-C5DA-49F7-903C-B906134327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EE1-6CA4-4CD3-9FE9-79D2F1AC2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FDBC-9B40-49DC-871D-40DFFC3574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930-A2EE-4D3D-ADB4-FA6FF84F1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42F-7CEF-46F9-A6BB-F040CC64D0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D2E1-2BEF-4A73-A0C5-D38410717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0401-D6DA-4DFA-9AE9-1489F74C0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25E5-DE67-4ADF-8617-C53B94E72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5323-0332-42BA-9EE5-049962322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23A-2EBC-4DD2-A262-7E0B204B27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87C2-942B-403A-9CD4-C786D62A3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E0B5-555E-41E5-BFBE-10CBEC56F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4423-6019-4213-8F97-5EC6FAAD7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4612-C5AB-4D8F-B346-64340AE6CC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F7F-A9CA-4192-A530-E04310A511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E484-F670-4EFF-A283-3367690299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8F52-5975-4862-AF44-05CF896670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B66-3564-4AB0-8CFB-251095A12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71D-69DA-42AA-BB79-8CB0B83522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FFFE-E5CA-4483-A7AF-750C95FADB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98E-8907-4DF1-9486-22D4E89E79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FE7E-FBAC-4580-B1B3-28E344BBB7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EEDE-20E5-45F4-8EDB-F601E4E19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6C5-56DC-4C91-94B0-AE063163C7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4CAA-F128-470E-AE8A-F9A3842A6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369B-D7DE-4337-9732-778CB17A83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ABA-A7C9-4B76-9975-6685E32203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E97-7D06-44C5-99F1-9AD707AC27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782-D5ED-4FEC-A969-67C21F5579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FFB3-5B4E-47E9-9AA7-8990CDD55C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987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8849" descr=""/>
          <p:cNvPicPr/>
          <p:nvPr/>
        </p:nvPicPr>
        <p:blipFill>
          <a:blip r:embed="rId1"/>
          <a:stretch/>
        </p:blipFill>
        <p:spPr>
          <a:xfrm>
            <a:off x="657360" y="2033640"/>
            <a:ext cx="7829280" cy="2790720"/>
          </a:xfrm>
          <a:prstGeom prst="rect">
            <a:avLst/>
          </a:prstGeom>
          <a:ln w="0">
            <a:noFill/>
          </a:ln>
        </p:spPr>
      </p:pic>
      <p:sp>
        <p:nvSpPr>
          <p:cNvPr id="1454" name="矩形 78850"/>
          <p:cNvSpPr/>
          <p:nvPr/>
        </p:nvSpPr>
        <p:spPr>
          <a:xfrm>
            <a:off x="3276720" y="263700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78851"/>
          <p:cNvSpPr/>
          <p:nvPr/>
        </p:nvSpPr>
        <p:spPr>
          <a:xfrm>
            <a:off x="4500720" y="263700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8852"/>
          <p:cNvSpPr/>
          <p:nvPr/>
        </p:nvSpPr>
        <p:spPr>
          <a:xfrm>
            <a:off x="6497640" y="3754440"/>
            <a:ext cx="189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78853"/>
          <p:cNvSpPr/>
          <p:nvPr/>
        </p:nvSpPr>
        <p:spPr>
          <a:xfrm>
            <a:off x="1258920" y="4311720"/>
            <a:ext cx="2879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77825" descr=""/>
          <p:cNvPicPr/>
          <p:nvPr/>
        </p:nvPicPr>
        <p:blipFill>
          <a:blip r:embed="rId1"/>
          <a:stretch/>
        </p:blipFill>
        <p:spPr>
          <a:xfrm>
            <a:off x="690480" y="1542960"/>
            <a:ext cx="7763040" cy="37720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77826"/>
          <p:cNvSpPr/>
          <p:nvPr/>
        </p:nvSpPr>
        <p:spPr>
          <a:xfrm>
            <a:off x="1619280" y="3213000"/>
            <a:ext cx="6769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7827"/>
          <p:cNvSpPr/>
          <p:nvPr/>
        </p:nvSpPr>
        <p:spPr>
          <a:xfrm>
            <a:off x="1187280" y="3770280"/>
            <a:ext cx="1513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77828"/>
          <p:cNvSpPr/>
          <p:nvPr/>
        </p:nvSpPr>
        <p:spPr>
          <a:xfrm>
            <a:off x="3564000" y="433692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77829"/>
          <p:cNvSpPr/>
          <p:nvPr/>
        </p:nvSpPr>
        <p:spPr>
          <a:xfrm>
            <a:off x="4849920" y="432108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7680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63000" cy="58197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76802"/>
          <p:cNvSpPr/>
          <p:nvPr/>
        </p:nvSpPr>
        <p:spPr>
          <a:xfrm>
            <a:off x="7740720" y="242100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9089" descr=""/>
          <p:cNvPicPr/>
          <p:nvPr/>
        </p:nvPicPr>
        <p:blipFill>
          <a:blip r:embed="rId1"/>
          <a:stretch/>
        </p:blipFill>
        <p:spPr>
          <a:xfrm>
            <a:off x="519120" y="1533600"/>
            <a:ext cx="8105760" cy="37908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89090"/>
          <p:cNvSpPr/>
          <p:nvPr/>
        </p:nvSpPr>
        <p:spPr>
          <a:xfrm>
            <a:off x="7812000" y="270828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90113" descr=""/>
          <p:cNvPicPr/>
          <p:nvPr/>
        </p:nvPicPr>
        <p:blipFill>
          <a:blip r:embed="rId1"/>
          <a:stretch/>
        </p:blipFill>
        <p:spPr>
          <a:xfrm>
            <a:off x="533520" y="2014560"/>
            <a:ext cx="8076960" cy="2828880"/>
          </a:xfrm>
          <a:prstGeom prst="rect">
            <a:avLst/>
          </a:prstGeom>
          <a:ln w="0">
            <a:noFill/>
          </a:ln>
        </p:spPr>
      </p:pic>
      <p:sp>
        <p:nvSpPr>
          <p:cNvPr id="1468" name="矩形 90114"/>
          <p:cNvSpPr/>
          <p:nvPr/>
        </p:nvSpPr>
        <p:spPr>
          <a:xfrm>
            <a:off x="7740720" y="386064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1137" descr=""/>
          <p:cNvPicPr/>
          <p:nvPr/>
        </p:nvPicPr>
        <p:blipFill>
          <a:blip r:embed="rId1"/>
          <a:stretch/>
        </p:blipFill>
        <p:spPr>
          <a:xfrm>
            <a:off x="485640" y="1528920"/>
            <a:ext cx="8172720" cy="3800160"/>
          </a:xfrm>
          <a:prstGeom prst="rect">
            <a:avLst/>
          </a:prstGeom>
          <a:ln w="0">
            <a:noFill/>
          </a:ln>
        </p:spPr>
      </p:pic>
      <p:sp>
        <p:nvSpPr>
          <p:cNvPr id="1470" name="矩形 91138"/>
          <p:cNvSpPr/>
          <p:nvPr/>
        </p:nvSpPr>
        <p:spPr>
          <a:xfrm>
            <a:off x="7802640" y="208908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2161" descr=""/>
          <p:cNvPicPr/>
          <p:nvPr/>
        </p:nvPicPr>
        <p:blipFill>
          <a:blip r:embed="rId1"/>
          <a:stretch/>
        </p:blipFill>
        <p:spPr>
          <a:xfrm>
            <a:off x="519120" y="1171440"/>
            <a:ext cx="8105760" cy="451512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2162"/>
          <p:cNvSpPr/>
          <p:nvPr/>
        </p:nvSpPr>
        <p:spPr>
          <a:xfrm>
            <a:off x="7740720" y="184464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9318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162640" cy="2923920"/>
          </a:xfrm>
          <a:prstGeom prst="rect">
            <a:avLst/>
          </a:prstGeom>
          <a:ln w="0">
            <a:noFill/>
          </a:ln>
        </p:spPr>
      </p:pic>
      <p:sp>
        <p:nvSpPr>
          <p:cNvPr id="1474" name="矩形 93187"/>
          <p:cNvSpPr/>
          <p:nvPr/>
        </p:nvSpPr>
        <p:spPr>
          <a:xfrm>
            <a:off x="5364000" y="422100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4209" descr=""/>
          <p:cNvPicPr/>
          <p:nvPr/>
        </p:nvPicPr>
        <p:blipFill>
          <a:blip r:embed="rId1"/>
          <a:stretch/>
        </p:blipFill>
        <p:spPr>
          <a:xfrm>
            <a:off x="766800" y="1781280"/>
            <a:ext cx="76104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476280" y="933480"/>
            <a:ext cx="8191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5233" descr=""/>
          <p:cNvPicPr/>
          <p:nvPr/>
        </p:nvPicPr>
        <p:blipFill>
          <a:blip r:embed="rId1"/>
          <a:stretch/>
        </p:blipFill>
        <p:spPr>
          <a:xfrm>
            <a:off x="452520" y="1047600"/>
            <a:ext cx="8238960" cy="476280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5234"/>
          <p:cNvSpPr/>
          <p:nvPr/>
        </p:nvSpPr>
        <p:spPr>
          <a:xfrm>
            <a:off x="7740720" y="213372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6257" descr=""/>
          <p:cNvPicPr/>
          <p:nvPr/>
        </p:nvPicPr>
        <p:blipFill>
          <a:blip r:embed="rId1"/>
          <a:stretch/>
        </p:blipFill>
        <p:spPr>
          <a:xfrm>
            <a:off x="690480" y="2048040"/>
            <a:ext cx="776304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9728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4560" cy="55245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97282"/>
          <p:cNvSpPr/>
          <p:nvPr/>
        </p:nvSpPr>
        <p:spPr>
          <a:xfrm>
            <a:off x="7812000" y="1916280"/>
            <a:ext cx="43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98305" descr=""/>
          <p:cNvPicPr/>
          <p:nvPr/>
        </p:nvPicPr>
        <p:blipFill>
          <a:blip r:embed="rId1"/>
          <a:stretch/>
        </p:blipFill>
        <p:spPr>
          <a:xfrm>
            <a:off x="490680" y="2333520"/>
            <a:ext cx="8162640" cy="2190960"/>
          </a:xfrm>
          <a:prstGeom prst="rect">
            <a:avLst/>
          </a:prstGeom>
          <a:ln w="0">
            <a:noFill/>
          </a:ln>
        </p:spPr>
      </p:pic>
      <p:sp>
        <p:nvSpPr>
          <p:cNvPr id="1482" name="矩形 98306"/>
          <p:cNvSpPr/>
          <p:nvPr/>
        </p:nvSpPr>
        <p:spPr>
          <a:xfrm>
            <a:off x="2411280" y="2924280"/>
            <a:ext cx="8319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8307"/>
          <p:cNvSpPr/>
          <p:nvPr/>
        </p:nvSpPr>
        <p:spPr>
          <a:xfrm>
            <a:off x="1403280" y="4076640"/>
            <a:ext cx="831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9329" descr=""/>
          <p:cNvPicPr/>
          <p:nvPr/>
        </p:nvPicPr>
        <p:blipFill>
          <a:blip r:embed="rId1"/>
          <a:stretch/>
        </p:blipFill>
        <p:spPr>
          <a:xfrm>
            <a:off x="490680" y="1228680"/>
            <a:ext cx="8162640" cy="4400640"/>
          </a:xfrm>
          <a:prstGeom prst="rect">
            <a:avLst/>
          </a:prstGeom>
          <a:ln w="0">
            <a:noFill/>
          </a:ln>
        </p:spPr>
      </p:pic>
      <p:sp>
        <p:nvSpPr>
          <p:cNvPr id="1485" name="矩形 99330"/>
          <p:cNvSpPr/>
          <p:nvPr/>
        </p:nvSpPr>
        <p:spPr>
          <a:xfrm>
            <a:off x="4211640" y="292428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9331"/>
          <p:cNvSpPr/>
          <p:nvPr/>
        </p:nvSpPr>
        <p:spPr>
          <a:xfrm>
            <a:off x="4643280" y="4633920"/>
            <a:ext cx="1008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7041" descr=""/>
          <p:cNvPicPr/>
          <p:nvPr/>
        </p:nvPicPr>
        <p:blipFill>
          <a:blip r:embed="rId1"/>
          <a:stretch/>
        </p:blipFill>
        <p:spPr>
          <a:xfrm>
            <a:off x="480960" y="800280"/>
            <a:ext cx="8182080" cy="52578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7042"/>
          <p:cNvSpPr/>
          <p:nvPr/>
        </p:nvSpPr>
        <p:spPr>
          <a:xfrm>
            <a:off x="7812000" y="5589720"/>
            <a:ext cx="43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86017" descr=""/>
          <p:cNvPicPr/>
          <p:nvPr/>
        </p:nvPicPr>
        <p:blipFill>
          <a:blip r:embed="rId1"/>
          <a:stretch/>
        </p:blipFill>
        <p:spPr>
          <a:xfrm>
            <a:off x="1400040" y="2362320"/>
            <a:ext cx="6343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4993" descr=""/>
          <p:cNvPicPr/>
          <p:nvPr/>
        </p:nvPicPr>
        <p:blipFill>
          <a:blip r:embed="rId1"/>
          <a:stretch/>
        </p:blipFill>
        <p:spPr>
          <a:xfrm>
            <a:off x="504720" y="1685880"/>
            <a:ext cx="8134560" cy="34862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4994"/>
          <p:cNvSpPr/>
          <p:nvPr/>
        </p:nvSpPr>
        <p:spPr>
          <a:xfrm>
            <a:off x="1403280" y="2924280"/>
            <a:ext cx="4248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4995"/>
          <p:cNvSpPr/>
          <p:nvPr/>
        </p:nvSpPr>
        <p:spPr>
          <a:xfrm>
            <a:off x="3760920" y="4130640"/>
            <a:ext cx="39621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4997"/>
          <p:cNvSpPr/>
          <p:nvPr/>
        </p:nvSpPr>
        <p:spPr>
          <a:xfrm>
            <a:off x="6372360" y="4672080"/>
            <a:ext cx="15271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495360" y="1733400"/>
            <a:ext cx="8153280" cy="33912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3970"/>
          <p:cNvSpPr/>
          <p:nvPr/>
        </p:nvSpPr>
        <p:spPr>
          <a:xfrm>
            <a:off x="6012000" y="4653000"/>
            <a:ext cx="79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2945" descr=""/>
          <p:cNvPicPr/>
          <p:nvPr/>
        </p:nvPicPr>
        <p:blipFill>
          <a:blip r:embed="rId1"/>
          <a:stretch/>
        </p:blipFill>
        <p:spPr>
          <a:xfrm>
            <a:off x="2124000" y="1909800"/>
            <a:ext cx="489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1921" descr=""/>
          <p:cNvPicPr/>
          <p:nvPr/>
        </p:nvPicPr>
        <p:blipFill>
          <a:blip r:embed="rId1"/>
          <a:stretch/>
        </p:blipFill>
        <p:spPr>
          <a:xfrm>
            <a:off x="438120" y="695160"/>
            <a:ext cx="8267760" cy="5467680"/>
          </a:xfrm>
          <a:prstGeom prst="rect">
            <a:avLst/>
          </a:prstGeom>
          <a:ln w="0">
            <a:noFill/>
          </a:ln>
        </p:spPr>
      </p:pic>
      <p:sp>
        <p:nvSpPr>
          <p:cNvPr id="1445" name="矩形 81922"/>
          <p:cNvSpPr/>
          <p:nvPr/>
        </p:nvSpPr>
        <p:spPr>
          <a:xfrm>
            <a:off x="3132000" y="3068640"/>
            <a:ext cx="8128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1923"/>
          <p:cNvSpPr/>
          <p:nvPr/>
        </p:nvSpPr>
        <p:spPr>
          <a:xfrm>
            <a:off x="5508720" y="3645000"/>
            <a:ext cx="12222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0897" descr=""/>
          <p:cNvPicPr/>
          <p:nvPr/>
        </p:nvPicPr>
        <p:blipFill>
          <a:blip r:embed="rId1"/>
          <a:stretch/>
        </p:blipFill>
        <p:spPr>
          <a:xfrm>
            <a:off x="509760" y="1133640"/>
            <a:ext cx="8124480" cy="459072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0898"/>
          <p:cNvSpPr/>
          <p:nvPr/>
        </p:nvSpPr>
        <p:spPr>
          <a:xfrm>
            <a:off x="2382840" y="355140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0899"/>
          <p:cNvSpPr/>
          <p:nvPr/>
        </p:nvSpPr>
        <p:spPr>
          <a:xfrm>
            <a:off x="3564000" y="4149720"/>
            <a:ext cx="863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0900"/>
          <p:cNvSpPr/>
          <p:nvPr/>
        </p:nvSpPr>
        <p:spPr>
          <a:xfrm>
            <a:off x="1312920" y="4686480"/>
            <a:ext cx="14828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0901"/>
          <p:cNvSpPr/>
          <p:nvPr/>
        </p:nvSpPr>
        <p:spPr>
          <a:xfrm>
            <a:off x="1258920" y="5229360"/>
            <a:ext cx="863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6:02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